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4668-BE28-48B9-BDA2-FB3DBF5E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82E-519D-463B-858F-FCD9583E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8E034-DDD6-44F9-BF68-AB24BF8F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B9B3E-20E4-4051-87BF-48337D43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1970A-E7FC-4953-AD99-C1B0C768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83CD4-3264-4A48-A7BF-7DB840D5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4D0A9-5DC5-4958-9F4E-23A60AD1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F3EC7-4128-443F-A1F2-49781B5F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037D2-2809-4953-AA16-394A8298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D4B23-ACE2-4AC1-B25D-7C0C11CD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2367A-3A31-4B5C-B387-39EB7CF1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77EAC-B04F-4525-AE41-00BB124F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D12-6FDC-417F-B3B8-0F44B52F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3692C-78F1-49FF-A9A7-341B8CA8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55C57-658B-45DB-8E2B-23B6275B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D2059-2CF2-4215-8D4B-0457E40C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F6F4B-2B0B-483B-AB5A-B17AE4EC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EDE03-2E97-4B9E-93F6-A1853A16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5BEB9-6379-4E5B-9677-B541E851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B877B-ECB3-4F85-9ECA-68EEDC84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4CFB3-E634-4668-8BCF-AAE4FAD3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16291-5864-4B1D-83C9-0D75249C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016AC-5C3F-4A1A-80C3-BBA5F0C5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C91-BD95-48E5-B0F6-A0FB56F5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DAD8C-5423-45F5-863A-D862E9E7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9E1BD-A321-478A-B3CC-919FF542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2D99A-6B5B-46A6-9416-F20404FE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E981D-F59A-44BB-ACBC-F1B03DA3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C1525-562C-458A-AE36-2AE44065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004E6-8EA7-4684-BFBE-26700ECC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7098A-C6D4-4AAB-AE9C-4BD07279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7A4B0-E01D-4B14-BFE7-48B365D5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92FEF-E5FA-4357-A84C-80DF711F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51A7E-B51F-4FE2-86B6-1B67BC62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6175-BF5D-4E74-91BD-E4457D96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F8E95-E1B1-45ED-991B-C2145923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D1FE8-EEC6-413B-9978-3FEB5B7C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F7A40-9638-4694-AF88-304E397F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DDB18-AE8A-49C1-8917-974DADD3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FE3DC-7A3C-4782-99AC-76716F13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B331D-5882-4C5C-90F0-9209B506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F203C-4F0E-4499-A466-9A12D5DD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555A0-7874-48CD-BAAC-83C8337A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D45E0-9A6E-4678-88C0-C65A88C5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9754C-960D-441F-9E17-D1A86BC1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90D7-3857-4472-8085-6280FB0E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B9664-F57B-402F-A23A-3B761A95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D144C-8CD5-49B5-835F-71CC715A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6C9F1-2A15-4D67-9891-85F5C132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FEADE-1BBE-4543-9F89-D743DD06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145AF-3CE9-406E-B707-A680699C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BC96C0-1AF7-4A52-951A-410DC425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2D450-70B1-4910-8890-E68538D2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C835BA-255B-4398-9D4B-1E55AA6D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80DF9F-7454-4163-99E1-2E06352C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514BE-DFCF-4501-B6FA-A25C4EB0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B6F9-B596-4C1C-9880-593BBF10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49736-0325-4CBE-B308-C1B03E50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D7532F-D27C-4A43-8FCE-D07CBA62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BB829-507E-4AAE-AD99-45394DEE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AC966-7530-40A6-867D-E12E2297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BF693-81CC-4577-92A7-FC7C3AA5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6D6C7-B541-460B-9C9D-E49E68B2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4F423D-3F09-42B0-8D80-47324B61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8E3F0-D421-4CF8-B7D0-A5771DB9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AB00B0-6065-4132-914C-93D5FB75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FB6A2A-C959-486B-9B5C-D858517F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D94D-EA33-4651-9ADF-F3ADEF24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9DD70C-9490-452E-BF46-022FF0D2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2951E4-0176-473C-BB06-0EFCB022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8A5B64-DACA-4CD5-BDAD-4C3D556D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5771A-062D-4BB6-91B5-46EB8993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9A1F41-7EED-4256-8872-ED5B4F02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23A7A5-93F5-49BA-8A25-E5277631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7D8F9C-96AF-4FC8-BEC9-598F273A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81B0D5-B7FB-47DE-99F6-25CAF74C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D7A96A-50EE-46B9-875D-20014EF3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2ADCEF-F693-4F57-B653-1269C19E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C7A4-A966-4FB9-9D07-F0E9EE6A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10F496-8471-4419-937D-C8638228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8BFEFC-7439-48C4-82D7-8E5E8E27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5B1B43-B171-44AA-92ED-D03263B1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70914A-18C9-41C5-9D93-B87F8805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DCFE7F-8DB1-475B-9CCF-8E10BD45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DFD232-8149-472A-AD1D-11DBF76A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321902-EEC0-48AD-9C0C-EB153620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C738E7-691A-4584-86C9-11AC70FD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D42B67-6633-42D0-8DD5-A063A08F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EFCC4B-BCE4-4AAE-BE9F-0460E9C4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AB24-AC25-4B0C-93B7-68FC1EEE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94D976-56A6-4CCF-9847-8192E25B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0AF2E8-2702-46F2-990B-88308956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B18931-06A2-45A3-BB75-15EC8916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3F702-CDE6-452A-811C-B3C912D3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907208-42C4-4661-BA43-B22367C4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0D95D4-3617-454F-A5AC-B0A7AB10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51DF85-1D1F-4E8F-ABAA-FDF86A52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F73FE5-2D38-45D9-843C-DE935BCA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E3E06-1A16-46FE-8106-9804356F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D5E1E3-500B-4636-8C2E-54633C13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7FDA-9953-44C9-9025-E03EBCFC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FFA563-1E58-4AAA-A2AB-8E278934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DC4101-F5FE-4168-AAC2-482674A0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65A788-918E-4260-9554-8C2C1FC8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73EB8E-BAA5-43A8-A5A2-720871B8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F1E554-4655-495B-9A00-209CE998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202259-1B84-4626-BC08-7DC692CE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F31B1D-F530-4C76-B6EA-293E2C96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60E107-BB80-45FB-9124-A27AF6A6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9C2A06-2E45-4BCB-AA49-0D200E04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0693E5-E2EB-4B37-A0D4-004719D5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B57-7539-498C-86B6-0609B80A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F5FE-C78A-4402-B7E8-52C1CBAE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79EE3A-4D24-4E43-9F6E-CA093136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0B22BF-CC81-457B-9410-CBFAB142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C6FE35-232B-40F4-8B69-050EDB27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D69F9F-48C3-4BBD-A619-7A88D355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5ADBB2-82E5-41AD-B900-52AC16AC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D6F215-D479-4068-B8FA-DF49357E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732E31-3ABF-4DE5-AE26-DCF1C12F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008474-2D45-499A-B34F-7E0CAD0D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9DE01F-8641-40AD-8D1B-E3103D86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91C864-EFD3-4CF0-A0D0-681385D6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DEFA-6343-4591-A3F4-6F6BC4F9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FEBA92-C5FA-4C14-9E92-67960016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95A62F-3273-4DEE-B388-CCF9C133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6959DC-3F5D-4711-A989-4DDD6873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D6BC3D-A77C-47C8-A963-A6C7CC53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641C5D-1607-4FE8-ACD0-808E88F5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DED799-8779-41DF-8CAE-FB56CF17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E1175E-DDF9-4F3B-AFED-13E8DD20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81B2CE-995F-45A0-9251-A42B0CDC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DD625C-81F9-4457-871D-43736595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7B5D73-0B2A-4DC8-B882-FBDB0612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513B-C283-4D5E-BB40-3A964ABC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A93958-2837-4AD7-9586-5269F295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278151-6AD6-47A4-8568-57D8DD44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189113-1387-4D5C-B3B5-DBAA2EAC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4B2797-DCDF-4AC0-AD34-87B4F68E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AD2473-3B97-404F-9679-0263B106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CDCBEA-C809-4149-8195-84D5632C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659EC6-DD81-46EA-B44B-07791403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A5679F-AC2C-45D1-B1B1-5BB67114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F708FC-7382-4FB5-BD83-C5696665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F5A211-A2B6-4A0D-9D80-2650B3F9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A3F0-E26C-4C9D-9562-4624BC9E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BF7FDA-62E4-422B-BEBB-EFB1EB68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126741-013D-4C7A-8490-1D637290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B93E51-50FF-47F1-A495-E9B29848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41281D-AFF1-43F7-A8A8-1A7738C2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BCBB1D-4721-4E13-BC41-E2D12B07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F1E902-1372-4E53-9D3E-5A4C173C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C2AAE2-C5AA-46A1-80CA-C91719E9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9A7474-D29A-4837-B571-9768BD26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CEA0E8-72E7-4E09-BF97-5F530DAA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F89A1B-2D5A-4C10-B2BB-E59A05B1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58D6-458F-4C7F-AFC2-66053E07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2D5866-4801-4858-8D16-DE8AE043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4A623A-EE72-4C29-BA7E-1D25440E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B38756-77E1-4A2E-9386-1BDFA5C0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E1F3D9-DAA5-43E7-92C9-E6C86040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80D1FD-621E-4BB2-9978-9C90A29D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C2F23F-7C05-47AA-BEA6-B02DEFA5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1939BF-4A56-4AE6-8D1E-881BD9A5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01FC08-C689-4C00-A19D-E8FB7E88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CE5310-8E06-40F9-A283-770EB823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8CFC35-FF7C-428F-9B75-01C21107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DF1EB-7A78-44BA-9736-ABFC8411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543B37-8369-4C7A-B60F-EB235D9B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E18BD0-7575-4A83-BAFB-F32F4F8D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413C26-F53B-4AA2-A0DD-2C7DED3D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19B2E-BC96-4FD1-A106-A6D72AE3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E42D3-3941-493C-97A9-763A3F85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72D4D-6E8C-4C22-8E32-6AD0E9A9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A7384-C859-4F11-B228-D88F0250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C60F-39AF-4E7A-A940-8FB69C75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4A748-CE35-4E8D-9926-A1057133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FDF7E-D446-4BC9-BF5F-0A594139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44005-2F16-4B46-923C-EF3322CE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308EF-4AE0-48B2-AC90-3752777F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D5BD8-AA9B-42AC-A8F8-DABEC4DC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FB5CE-8681-449E-8883-7A5EF3D4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9C0C1-A44A-4729-88FD-973DE5E9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7294C-3CD7-49B1-B342-B88B8DC4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C42B4-2D0C-4984-8DEA-36D42669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EB0FC-324B-403A-8DA5-F9FC669B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BC69-BF7A-4D04-BC84-C597A04E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F6397-8884-41FB-A299-0FDE0E17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67A3B-382C-4EDA-BA48-4523DCA6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161F3-E25F-47E6-B078-80771AB3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20328-8E33-4267-9ED8-EE9DC907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A1E4B-AF39-4CE8-A84D-B2237266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E0174-AD86-48C5-846A-9356BEBB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8D63B-FCB6-45C6-B55D-A160B240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D26FF-CC94-4219-A1A7-C271F3C4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F3019-8C05-416B-ADC6-E412291D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D49B8-B0FF-4754-A502-6A3880BD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8952-3E3D-4E6B-B04F-80B8BEF2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0EA1A-2628-4EDE-889C-CF469A25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444DB-BB27-4A52-AA35-04A27255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9E471-DFC0-463A-9547-C600304C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C15AE-6E4E-45D9-9F98-E9F9025B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16C5C-AF7D-40B4-9AC1-A8B4ACAB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88F1F-8449-42E1-AEBC-2193F77B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31820-81DC-4044-9F3B-E55CA3B9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FE9FA-8DF9-401B-8D6C-3B6C8DBC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994CA-D0E5-442A-9D15-0A5564D9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6D588-33D1-4881-8A0B-4F5E3657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6182-F393-46AE-8646-4A352914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FBF8C-BCC3-4844-8A56-DD311E88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D42C6-ABCE-4AB2-B78F-A2EABD49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7792B-F3F2-4A7C-96CF-D4D5E51D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B3F93-9FA3-422B-9163-14617106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A3126-D5BC-42AA-9AC4-6B0B0AE7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728F8-1F34-4A4D-85C9-E5329B4D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5FE96-2EAC-4F5C-AC42-630129AB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740EC-D067-43C5-A929-679CE7D8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F4F6B-51C1-43AE-9823-DA2488F4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451CF-448B-4A1A-99E0-8718BC91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C5CB-A879-45A6-AB85-0C2CDED8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27067-8325-4917-B693-DDCA3030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CD6FA-2422-49D4-940A-FD8FD5DC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2D678-1192-426C-AA86-E9DFDD68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7736E-0BA1-4903-99D4-D96A4900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88398-957C-443C-94A5-F01BA2AA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660B1-90B7-45E5-B89F-59E5F88F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F31E0-1C11-456C-8B72-0F3190D3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8191B-E446-4A87-A4CC-05856260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6CA1D-DECA-48DD-A83E-5DB903C1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ACEB7-4C68-4653-B4BC-0C36D109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AA3-9D74-475A-88AD-9A06385A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53CCD-EA93-416A-8487-CBE39493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DB24F-B15D-447F-A3E1-F76ACBBB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D3820-77B0-42FB-B7FA-A1294AE2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C50BD-B81E-4C18-85E6-418943AE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FF22E-208E-465C-A2C9-02B916C7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3A272-AB7B-4C9C-8831-4C1AC5DB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ED181-0578-4B21-86A7-ED449E12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19333-48A7-4883-82E2-8ADA9ADF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911B5-3EBC-4994-8259-FF4C5A5A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21123-3D06-4EE8-9B31-ED9A761C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028E-02B0-4B94-AFE0-FB8FBAF2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D5AF9-D61A-4B74-BDEE-A44574A5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269C7-2B54-4DA9-9C04-E3856FC2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57F95-CF2B-4493-A4E4-29779614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70DC5-4A70-449E-9C82-18C94072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2002C-3408-4741-A3F1-B75874AA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0454F-6CE9-437A-82D3-4D8133CD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B17A9-FD81-4D88-84E7-0686C313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0E266-01E7-4C99-98DF-CDBF9A43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5C812-5318-48E2-8D2E-2713AE3A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D5F5A-069C-4ED8-8B33-BE95B673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5FC5-F8FB-4138-85D5-8BEBC34729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9F6A-58D7-47E0-B9A2-C0CCAF1F84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3935-1E44-468F-836E-A603BC2ABC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00FE-394B-465A-AE71-BD1E965C09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E740-1111-47C6-8C6B-CCDA9342D7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D931-83D0-4559-9ADA-BBB5D98D51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AEBE-DC20-4471-9CC1-849D936EFE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FF73-61AE-4894-90E2-2FCF97382B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A095-8C44-4A40-844A-C77CA16CC8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25A8-9983-480C-B265-13E5FDECF6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129F-92BA-456C-927F-2CC5FD269E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4837-1BEA-4B87-9CFA-825FA69DFB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18D3-B75D-4A40-BF52-3ACAC8ABEE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A047-D183-4874-B996-5AEB4105AB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20B8-D717-474E-A794-8293B88DB9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4A2D-018C-4851-9425-87DF424E66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9C0A-F177-43EA-85AE-6EA234F01D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C988-7874-4C2A-94F2-50A53E7E2E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C33E-0FD7-46C0-A64B-3EE9780CF7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CE6A-338B-49D9-B022-80EE740F96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E116-E1E5-4E9B-83C5-B0F858AB48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AFF8-F82E-420A-A7C6-AC95BCF5B3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B06C-6861-4AF5-A157-1E2BFDAA14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F0F1-382F-4969-BC3D-7E656E7C13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4663-5790-4CE1-9A86-B684450002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B50F-F3C7-4DC4-AD8B-ED1CC7D108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2C82-4F73-4D2F-95DC-6D54995F0B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4E63-EAE6-45D6-AF3D-4FCD222742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34C0-0B3A-415E-ABC3-52839C1D95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D549-B617-4062-AE1E-B1D63443C4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6780-5728-4340-8E28-69672BB680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2FCA-B7DF-4C1E-A493-DCE3B52C8C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7CB6-90B3-448E-9F87-F208382374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EF67-019E-4EAB-8C35-4F33855DEF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814E-F99D-45E2-9E2A-8B3EB60F55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8A8B-8378-4C32-9AC4-26D1C2F227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5A3A-B1F8-4D59-9FAB-39FAB10799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35EA-73A7-497E-9372-E5089723B6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53CD-CFB3-42AA-A5B8-2F49593DF0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ECA4-64FC-432A-99DD-8545E7D857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14680" y="3186000"/>
            <a:ext cx="391464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23920" y="781200"/>
            <a:ext cx="8696160" cy="52956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692360" y="35002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508720" y="35002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692360" y="52815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340000" y="5599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848200" y="5364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012000" y="5699160"/>
            <a:ext cx="288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237960" y="2114640"/>
            <a:ext cx="8668080" cy="26287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1692360" y="3554280"/>
            <a:ext cx="1008000" cy="257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2906640" y="3573360"/>
            <a:ext cx="100800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5867280" y="39528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1692360" y="39862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1979640" y="4302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5292720" y="3554280"/>
            <a:ext cx="863640" cy="2574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8"/>
          <a:stretch/>
        </p:blipFill>
        <p:spPr>
          <a:xfrm>
            <a:off x="6310440" y="3538440"/>
            <a:ext cx="863640" cy="2574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9"/>
          <a:stretch/>
        </p:blipFill>
        <p:spPr>
          <a:xfrm>
            <a:off x="7342200" y="3538440"/>
            <a:ext cx="863640" cy="257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0"/>
          <a:stretch/>
        </p:blipFill>
        <p:spPr>
          <a:xfrm>
            <a:off x="6084720" y="4346640"/>
            <a:ext cx="289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8373" descr=""/>
          <p:cNvPicPr/>
          <p:nvPr/>
        </p:nvPicPr>
        <p:blipFill>
          <a:blip r:embed="rId1"/>
          <a:stretch/>
        </p:blipFill>
        <p:spPr>
          <a:xfrm>
            <a:off x="157320" y="1390680"/>
            <a:ext cx="8829360" cy="40766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4572000" y="3924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4572000" y="4365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8369280" y="2133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8369280" y="2565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8359920" y="29624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7"/>
          <a:stretch/>
        </p:blipFill>
        <p:spPr>
          <a:xfrm>
            <a:off x="8359920" y="33577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8"/>
          <a:stretch/>
        </p:blipFill>
        <p:spPr>
          <a:xfrm>
            <a:off x="8350200" y="3789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9"/>
          <a:stretch/>
        </p:blipFill>
        <p:spPr>
          <a:xfrm>
            <a:off x="8561520" y="4211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0"/>
          <a:stretch/>
        </p:blipFill>
        <p:spPr>
          <a:xfrm>
            <a:off x="8556480" y="46101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1"/>
          <a:stretch/>
        </p:blipFill>
        <p:spPr>
          <a:xfrm>
            <a:off x="8575560" y="5022720"/>
            <a:ext cx="2890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20:04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